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8.jpeg" ContentType="image/jpeg"/>
  <Override PartName="/ppt/media/image3.wmf" ContentType="image/x-wmf"/>
  <Override PartName="/ppt/media/image26.png" ContentType="image/png"/>
  <Override PartName="/ppt/media/image2.jpeg" ContentType="image/jpe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BA3-D0BB-448D-BB44-B91D5F10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A0C-339B-4BA5-AC2B-F5A81A92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969-A4E5-4DD3-8211-821FDFCE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66E-89CD-4560-A9C7-5EE067C8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9368-BAA4-45EC-9345-710582BE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58DA-382C-4DF5-8FED-1CDD544A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0F4B-925B-4038-9FDD-31C98385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3682-D14C-40AE-B1AB-DDBC859C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8BD3-1599-4717-AC9F-330B4EA5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2AE9-E306-4321-BA31-7271ECB8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25FB-83E2-468F-AD6D-AEA4E420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145-0E5F-45F3-8A39-7D3B096F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C5A2-FEE1-4F65-AD6E-E8477230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2656-3EF3-4939-8433-F8643937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0796-B560-4E3D-BD18-C7BBB4FD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DF92-25F5-4F18-80A3-A93606FE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A2E2-A768-4695-874B-2810B74F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B5C-8C35-4DB6-94EA-8517C63F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EC9-66F9-44D8-A60D-7B031E40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8AD-8D9E-421D-A996-5DBAD902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454-1FE4-4212-A843-3079CB92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032-8CC0-459D-A830-1AC4A181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A7B-E4A4-41EA-808F-5B707BB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E14-8FBB-4758-922D-70D3115A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535E-8873-46E0-9454-8750C16832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B733-348C-4B83-8E88-7EFA89946A9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8E69-DAFD-478D-87F7-00F532CAD7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9649-702D-4F6E-9931-0A1755C38EF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hm.bris.ac.uk/motm/caeruloplasmin/images/429.gif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candium" TargetMode="External"/><Relationship Id="rId2" Type="http://schemas.openxmlformats.org/officeDocument/2006/relationships/hyperlink" Target="http://en.wikipedia.org/wiki/Titanium" TargetMode="External"/><Relationship Id="rId3" Type="http://schemas.openxmlformats.org/officeDocument/2006/relationships/hyperlink" Target="http://en.wikipedia.org/wiki/Chromium" TargetMode="External"/><Relationship Id="rId4" Type="http://schemas.openxmlformats.org/officeDocument/2006/relationships/hyperlink" Target="http://en.wikipedia.org/wiki/Yttrium" TargetMode="External"/><Relationship Id="rId5" Type="http://schemas.openxmlformats.org/officeDocument/2006/relationships/hyperlink" Target="http://en.wikipedia.org/wiki/Zirconium" TargetMode="External"/><Relationship Id="rId6" Type="http://schemas.openxmlformats.org/officeDocument/2006/relationships/hyperlink" Target="http://en.wikipedia.org/wiki/Niobium" TargetMode="External"/><Relationship Id="rId7" Type="http://schemas.openxmlformats.org/officeDocument/2006/relationships/hyperlink" Target="http://en.wikipedia.org/wiki/Technetium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66720" y="819000"/>
            <a:ext cx="7772400" cy="22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66"/>
                </a:solidFill>
                <a:latin typeface="Arial Black"/>
              </a:rPr>
              <a:t>Modeling the</a:t>
            </a:r>
            <a:r>
              <a:rPr b="0" lang="sk-SK" sz="37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700" spc="-1" strike="noStrike">
                <a:solidFill>
                  <a:srgbClr val="336666"/>
                </a:solidFill>
                <a:latin typeface="Arial Black"/>
              </a:rPr>
              <a:t>early stage of the acute phase of </a:t>
            </a:r>
            <a:br>
              <a:rPr sz="3700"/>
            </a:br>
            <a:r>
              <a:rPr b="0" lang="en-US" sz="3700" spc="-1" strike="noStrike">
                <a:solidFill>
                  <a:srgbClr val="336666"/>
                </a:solidFill>
                <a:latin typeface="Arial Black"/>
              </a:rPr>
              <a:t>joint inflammation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86040" y="3528720"/>
            <a:ext cx="5410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 Black"/>
              </a:rPr>
              <a:t>… </a:t>
            </a:r>
            <a:r>
              <a:rPr b="1" i="1" lang="en-US" sz="2500" spc="-1" strike="noStrike">
                <a:solidFill>
                  <a:srgbClr val="0000ff"/>
                </a:solidFill>
                <a:latin typeface="Arial Black"/>
              </a:rPr>
              <a:t>a brain storming session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. Šoltés, G. Kogan, R. St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8B07-6F01-4CBF-9471-50F4BD056D4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2B8DD6A-D29B-46F3-B25B-96878AE47FA6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dox activity of transition metal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– 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III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x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III)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+ 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II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e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 Black"/>
                <a:ea typeface="Arial"/>
              </a:rPr>
              <a:t>↔</a:t>
            </a:r>
            <a:r>
              <a:rPr b="0" lang="en-US" sz="4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k-SK" sz="4700" spc="-1" strike="noStrike">
                <a:solidFill>
                  <a:srgbClr val="0000ff"/>
                </a:solidFill>
                <a:latin typeface="Arial Black"/>
              </a:rPr>
              <a:t>Red</a:t>
            </a:r>
            <a:r>
              <a:rPr b="0" lang="sk-SK" sz="4700" spc="-1" strike="noStrike">
                <a:solidFill>
                  <a:srgbClr val="ff0000"/>
                </a:solidFill>
                <a:latin typeface="Arial Black"/>
              </a:rPr>
              <a:t>ox </a:t>
            </a:r>
            <a:r>
              <a:rPr b="0" lang="sk-SK" sz="47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°’</a:t>
            </a:r>
            <a:r>
              <a:rPr b="0" lang="sk-SK" sz="47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939-E13E-4B0A-A6CD-5E079916DC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A2F27-DCDE-4778-8D96-CBD416E4D23B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Redox potential of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Fe(III)/Fe(II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  <a:ea typeface="Arial"/>
              </a:rPr>
              <a:t>°’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Fe(III)/Fe(II) …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 Black"/>
              </a:rPr>
              <a:t>+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 Black"/>
              </a:rPr>
              <a:t> 480 mV (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 Black"/>
              </a:rPr>
              <a:t>+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 Black"/>
              </a:rPr>
              <a:t> 700 mV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Fe(III)-EDTA / Fe(II)-EDTA …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+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 Black"/>
              </a:rPr>
              <a:t> 120 m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Fe(III)-DFO / Fe(II)-DFO …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 Black"/>
              </a:rPr>
              <a:t>-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 Black"/>
              </a:rPr>
              <a:t> 450 m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Fe(III)-</a:t>
            </a:r>
            <a:r>
              <a:rPr b="0" lang="en-US" sz="2600" spc="-1" strike="noStrike">
                <a:solidFill>
                  <a:srgbClr val="336666"/>
                </a:solidFill>
                <a:latin typeface="Arial Black"/>
              </a:rPr>
              <a:t>HA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/ Fe(II)-</a:t>
            </a:r>
            <a:r>
              <a:rPr b="0" lang="en-US" sz="2600" spc="-1" strike="noStrike">
                <a:solidFill>
                  <a:srgbClr val="336666"/>
                </a:solidFill>
                <a:latin typeface="Arial Black"/>
              </a:rPr>
              <a:t>HA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… </a:t>
            </a:r>
            <a:r>
              <a:rPr b="0" lang="en-US" sz="3600" spc="-1" strike="noStrike" u="sng">
                <a:solidFill>
                  <a:srgbClr val="336666"/>
                </a:solidFill>
                <a:uFillTx/>
                <a:latin typeface="Arial Black"/>
              </a:rPr>
              <a:t>±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sk-SK" sz="2600" spc="-1" strike="noStrike" u="sng">
                <a:solidFill>
                  <a:srgbClr val="000000"/>
                </a:solidFill>
                <a:uFillTx/>
                <a:latin typeface="Arial Black"/>
              </a:rPr>
              <a:t>???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 Black"/>
              </a:rPr>
              <a:t> m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F88-02BC-4281-8120-2187A1170A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08C6B-ACAE-4E2B-8F01-5981986234EE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ccurrence of biogenic transition metals (ions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nder physiological conditions, ther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 free/unbound biogenic transition metal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Mn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D</a:t>
            </a: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Arial Black"/>
              </a:rPr>
              <a:t>(3-30 </a:t>
            </a:r>
            <a:r>
              <a:rPr b="1" i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i="1" lang="en-US" sz="1800" spc="-1" strike="noStrike">
                <a:solidFill>
                  <a:srgbClr val="ff3300"/>
                </a:solidFill>
                <a:latin typeface="Arial Black"/>
              </a:rPr>
              <a:t>M free/unboun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moglobin, myoglobin, cytochrome, transferr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o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tamin B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D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Zn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trogen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Mo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anthine oxid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Ni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9600" y="1981080"/>
            <a:ext cx="6248520" cy="838440"/>
          </a:xfrm>
          <a:prstGeom prst="rect">
            <a:avLst/>
          </a:prstGeom>
          <a:noFill/>
          <a:ln w="57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54680" y="4114800"/>
            <a:ext cx="20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 Black"/>
              </a:rPr>
              <a:t>CERULOPLAS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26B-4993-49B2-8FAC-FE95B001C3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D07BC-C2C7-4A48-9A26-E36558160075}" type="datetime1">
              <a:rPr lang="en-US"/>
              <a:t>07/30/26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 Black"/>
              </a:rPr>
              <a:t>The first topic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9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uilding blocks of the biostructures – </a:t>
            </a: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NOTE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#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#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532-56B0-4F14-8CF1-F52943D223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C7485-E18B-48F3-B4B7-9B04D3768DDF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 Black"/>
              </a:rPr>
              <a:t>The second topic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Actors in the inflammatory process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ff"/>
                </a:solidFill>
                <a:latin typeface="Arial Black"/>
              </a:rPr>
              <a:t>Weissberger’s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 syste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#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#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6DB-9D64-484D-A915-4BC598B7F5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6904B-5905-47C1-AC94-A16686FA0AF2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Ascorbic acid/Ascorbat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62120" y="2322360"/>
          <a:ext cx="769608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22360"/>
                    <a:ext cx="769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62120" y="499752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pH 7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99.95% of vitamin C (As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as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sent as 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ascorb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sc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49760" y="2286000"/>
            <a:ext cx="1752480" cy="2057400"/>
          </a:xfrm>
          <a:prstGeom prst="rect">
            <a:avLst/>
          </a:prstGeom>
          <a:noFill/>
          <a:ln w="19080">
            <a:solidFill>
              <a:srgbClr val="261b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 - adapted from G.R. Buettner &amp; F.Q.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B20-0FBF-47BA-80B8-4FED9C93A8C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F348E-54C3-43FB-9A1B-46CD60BAE7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Ascorbate – antioxidant</a:t>
            </a:r>
            <a:br>
              <a:rPr sz="3300"/>
            </a:b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 Black"/>
              </a:rPr>
              <a:t>no biogenic transition metals present</a:t>
            </a:r>
            <a:r>
              <a:rPr b="0" lang="en-US" sz="2600" spc="-1" strike="noStrike">
                <a:solidFill>
                  <a:srgbClr val="336666"/>
                </a:solidFill>
                <a:latin typeface="Arial Black"/>
              </a:rPr>
              <a:t>)</a:t>
            </a: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57080" y="1701720"/>
          <a:ext cx="770112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701720"/>
                    <a:ext cx="770112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752480" y="4952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As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 Black"/>
                <a:ea typeface="Arial"/>
              </a:rPr>
              <a:t>•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 Black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 + As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 Black"/>
              </a:rPr>
              <a:t>•-</a:t>
            </a: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 + H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 Black"/>
              </a:rPr>
              <a:t>+</a:t>
            </a: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 ↔ AscH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 Black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 + D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 - adapted from G.R. Buettner &amp; F.Q.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380-849B-406B-86E6-BEF3B9B63C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3CF24-4A83-45C2-B6CC-113046CEB0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Recycling of ascorbate</a:t>
            </a:r>
            <a:br>
              <a:rPr sz="3300"/>
            </a:br>
            <a:r>
              <a:rPr b="0" lang="en-US" sz="26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 Black"/>
              </a:rPr>
              <a:t>no biogenic transition metals present</a:t>
            </a:r>
            <a:r>
              <a:rPr b="0" lang="en-US" sz="2600" spc="-1" strike="noStrike">
                <a:solidFill>
                  <a:srgbClr val="336666"/>
                </a:solidFill>
                <a:latin typeface="Arial Black"/>
              </a:rPr>
              <a:t>)</a:t>
            </a: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65240" y="1855800"/>
          <a:ext cx="5105520" cy="32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55800"/>
                    <a:ext cx="510552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0880" y="5105520"/>
            <a:ext cx="8534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Recycling of ascorbat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ppears to be an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enzyme-dependent proce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wo electrons require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come from GS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 - adapted from G.R. Buettner &amp; F.Q.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954-14D3-410A-B9DC-7D45165B6DE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8283C-CA05-46F3-BF12-8E7A70206C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eruloplasmin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sk-SK" sz="33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sk-SK" sz="3300" spc="-1" strike="noStrike">
                <a:solidFill>
                  <a:srgbClr val="ff3300"/>
                </a:solidFill>
                <a:latin typeface="Arial Black"/>
              </a:rPr>
              <a:t>a</a:t>
            </a: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n acute-phase protein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6480" y="2266560"/>
            <a:ext cx="400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Arial Black"/>
              </a:rPr>
              <a:t>Acute-phase prote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pper transport and storage (95 %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ntioxidant activity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3626aa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ff"/>
                </a:solidFill>
                <a:latin typeface="Arial Black"/>
              </a:rPr>
              <a:t>[Fe(II) </a:t>
            </a:r>
            <a:r>
              <a:rPr b="0" lang="en-GB" sz="2100" spc="-1" strike="noStrike">
                <a:solidFill>
                  <a:srgbClr val="0000ff"/>
                </a:solidFill>
                <a:latin typeface="Arial Black"/>
                <a:ea typeface="Arial"/>
              </a:rPr>
              <a:t>=&gt; Fe(III)</a:t>
            </a:r>
            <a:r>
              <a:rPr b="0" lang="en-GB" sz="2100" spc="-1" strike="noStrike">
                <a:solidFill>
                  <a:srgbClr val="0000ff"/>
                </a:solidFill>
                <a:latin typeface="Arial Black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 u="sng">
                <a:solidFill>
                  <a:srgbClr val="ff3300"/>
                </a:solidFill>
                <a:uFillTx/>
                <a:latin typeface="Arial Black"/>
              </a:rPr>
              <a:t>Pro-oxidant activity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0574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73E-AD3E-4F92-B64A-02D997FAF6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CC03F-8D55-4D84-8583-4E2430EAEB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eruloplasmin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pro-oxidant activity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 atoms/ions in +2 and +1 oxidation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 Black"/>
              </a:rPr>
              <a:t>2 Cu atoms/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3867120"/>
            <a:ext cx="3429000" cy="2362320"/>
          </a:xfrm>
          <a:prstGeom prst="irregularSeal2">
            <a:avLst/>
          </a:prstGeom>
          <a:solidFill>
            <a:srgbClr val="ff33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 Black"/>
              </a:rPr>
              <a:t>loosely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963-5FEE-43A0-914D-CD8FBDA8A0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A8A2D-E721-4B11-8240-5704FAB132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Joint inflammation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general</a:t>
            </a:r>
            <a:r>
              <a:rPr b="0" lang="en-US" sz="2600" spc="-1" strike="noStrike">
                <a:solidFill>
                  <a:srgbClr val="0000ff"/>
                </a:solidFill>
                <a:latin typeface="Arial Black"/>
              </a:rPr>
              <a:t> scheme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1754280"/>
            <a:ext cx="6399000" cy="452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6520" y="2970360"/>
            <a:ext cx="1096920" cy="1096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89640" y="5127480"/>
            <a:ext cx="16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rotin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steoarthr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artil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003) 747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37880" y="3330720"/>
            <a:ext cx="1229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te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M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0" y="3695760"/>
            <a:ext cx="126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ffff"/>
                </a:solidFill>
                <a:latin typeface="Arial"/>
              </a:rPr>
              <a:t>HYALURON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C61-53B1-4DB6-AD4B-3181C08C62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6F87B-69CA-473D-A169-68A72D637B6A}" type="datetime1">
              <a:rPr lang="en-US"/>
              <a:t>07/30/26</a:t>
            </a:fld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3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Weissberger’s system</a:t>
            </a: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200"/>
            </a:br>
            <a:br>
              <a:rPr sz="12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sher A.E.O., Naughton D.P.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Nutrition J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4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1;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urr Drug Deliv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2005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261</a:t>
            </a:r>
            <a:endParaRPr b="0" lang="en-US" sz="1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2386080"/>
            <a:ext cx="76960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u(II)-ion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catalysis of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xidation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corbic acid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has long been considered as a mechanism for the form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reaction was studied in detail initially by Weissberg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[1943] and subsequently by Khan &amp; Martell [1967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3324240"/>
            <a:ext cx="2344680" cy="1455840"/>
          </a:xfrm>
          <a:prstGeom prst="ellipse">
            <a:avLst/>
          </a:prstGeom>
          <a:gradFill rotWithShape="0">
            <a:gsLst>
              <a:gs pos="0">
                <a:srgbClr val="3626aa">
                  <a:alpha val="10196"/>
                </a:srgbClr>
              </a:gs>
              <a:gs pos="100000">
                <a:srgbClr val="18114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34F-7F22-40CD-99F6-E9E52F4FD1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E1F8C-BEDA-4563-8B05-BD16C753985A}" type="datetime1">
              <a:rPr lang="en-US"/>
              <a:t>07/30/26</a:t>
            </a:fld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6666"/>
                </a:solidFill>
                <a:latin typeface="Arial Black"/>
              </a:rPr>
              <a:t>Weissberger’s system</a:t>
            </a: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47800" y="1774800"/>
          <a:ext cx="7543800" cy="45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774800"/>
                    <a:ext cx="754380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952560" y="50752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C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ff3399"/>
                </a:solidFill>
                <a:latin typeface="Times New Roman"/>
              </a:rPr>
              <a:t>3d</a:t>
            </a:r>
            <a:r>
              <a:rPr b="1" lang="en-US" sz="2200" spc="-1" strike="noStrike" u="sng" baseline="30000">
                <a:solidFill>
                  <a:srgbClr val="ff3399"/>
                </a:solidFill>
                <a:uFillTx/>
                <a:latin typeface="Times New Roman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s</a:t>
            </a:r>
            <a:r>
              <a:rPr b="1" lang="en-US" sz="2200" spc="-1" strike="noStrike" u="sng" baseline="30000">
                <a:solidFill>
                  <a:srgbClr val="ff3399"/>
                </a:solidFill>
                <a:uFillTx/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: </a:t>
            </a:r>
            <a:r>
              <a:rPr b="0" lang="en-US" sz="2200" spc="-1" strike="noStrike">
                <a:solidFill>
                  <a:srgbClr val="ff3399"/>
                </a:solidFill>
                <a:latin typeface="Times New Roman"/>
              </a:rPr>
              <a:t>3d</a:t>
            </a:r>
            <a:r>
              <a:rPr b="1" lang="en-US" sz="2200" spc="-1" strike="noStrike" u="sng" baseline="30000">
                <a:solidFill>
                  <a:srgbClr val="ff3399"/>
                </a:solidFill>
                <a:uFillTx/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s</a:t>
            </a:r>
            <a:r>
              <a:rPr b="1" lang="en-US" sz="2200" spc="-1" strike="noStrike" u="sng" baseline="30000">
                <a:solidFill>
                  <a:srgbClr val="ff3399"/>
                </a:solidFill>
                <a:uFillTx/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n: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3d</a:t>
            </a:r>
            <a:r>
              <a:rPr b="1" lang="en-US" sz="2200" spc="-1" strike="noStrike" u="sng" baseline="30000">
                <a:solidFill>
                  <a:srgbClr val="0000ff"/>
                </a:solidFill>
                <a:uFillTx/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s</a:t>
            </a:r>
            <a:r>
              <a:rPr b="1" lang="en-US" sz="2200" spc="-1" strike="noStrike" u="sng" baseline="30000">
                <a:solidFill>
                  <a:srgbClr val="0000ff"/>
                </a:solidFill>
                <a:uFillTx/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507672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Cu</a:t>
            </a:r>
            <a:r>
              <a:rPr b="1" lang="sk-SK" sz="2200" spc="-1" strike="noStrike">
                <a:solidFill>
                  <a:srgbClr val="ff0000"/>
                </a:solidFill>
                <a:latin typeface="Times New Roman"/>
              </a:rPr>
              <a:t>(II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ff3399"/>
                </a:solidFill>
                <a:latin typeface="Times New Roman"/>
              </a:rPr>
              <a:t>3d</a:t>
            </a:r>
            <a:r>
              <a:rPr b="1" lang="sk-SK" sz="2200" spc="-1" strike="noStrike" u="sng" baseline="30000">
                <a:solidFill>
                  <a:srgbClr val="ff3399"/>
                </a:solidFill>
                <a:uFillTx/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sk-SK" sz="22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ff3399"/>
                </a:solidFill>
                <a:latin typeface="Times New Roman"/>
              </a:rPr>
              <a:t>3d</a:t>
            </a:r>
            <a:r>
              <a:rPr b="1" lang="sk-SK" sz="2200" spc="-1" strike="noStrike" u="sng" baseline="30000">
                <a:solidFill>
                  <a:srgbClr val="ff3399"/>
                </a:solidFill>
                <a:uFillTx/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sk-SK" sz="22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3d</a:t>
            </a:r>
            <a:r>
              <a:rPr b="1" lang="en-US" sz="2200" spc="-1" strike="noStrike" u="sng" baseline="30000">
                <a:solidFill>
                  <a:srgbClr val="0000ff"/>
                </a:solidFill>
                <a:uFillTx/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CB4-8716-4BBB-A934-A6F558E3EE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E5B1B-E05F-4C77-839E-42DBE342D891}" type="datetime1">
              <a:rPr lang="en-US"/>
              <a:t>07/30/26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6666"/>
                </a:solidFill>
                <a:latin typeface="Arial Black"/>
              </a:rPr>
              <a:t>Weissberger’s system</a:t>
            </a: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2120" y="1806480"/>
            <a:ext cx="7696080" cy="44420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533760" y="4743360"/>
            <a:ext cx="838080" cy="60984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>
                  <a:alpha val="0"/>
                </a:srgbClr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76520" y="4505400"/>
            <a:ext cx="1828800" cy="1066680"/>
          </a:xfrm>
          <a:prstGeom prst="ellipse">
            <a:avLst/>
          </a:prstGeom>
          <a:gradFill rotWithShape="0">
            <a:gsLst>
              <a:gs pos="0">
                <a:srgbClr val="97cdcc">
                  <a:alpha val="0"/>
                </a:srgbClr>
              </a:gs>
              <a:gs pos="100000">
                <a:srgbClr val="455e5e">
                  <a:alpha val="0"/>
                </a:srgbClr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E23-AB12-41AE-AAB0-51F24613AD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6459D-FB74-4E50-A4F2-BF6136D99BC0}" type="datetime1">
              <a:rPr lang="en-US"/>
              <a:t>07/30/26</a:t>
            </a:fld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3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6666"/>
                </a:solidFill>
                <a:latin typeface="Arial Black"/>
              </a:rPr>
              <a:t>Weissberger’s system</a:t>
            </a: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2386080"/>
            <a:ext cx="76960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ssberger A, LuValle JE, Thomas DS Jr. Oxidation processes. XVI. 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The autoxidation of ascorbic aci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Amer Chem S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9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934–19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an MM, Martell AE. Metal ion and metal chelate catalyzed 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oxidation of ascorbic acid by molecular oxy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. 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Cup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r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on 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atalyzed oxid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Amer Chem S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9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176–418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9C3-C117-47A9-BCE5-3669445417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6B54B-F00A-4634-92F1-CE45544CDAF0}" type="datetime1">
              <a:rPr lang="en-US"/>
              <a:t>07/30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3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Oxidation systems</a:t>
            </a:r>
            <a:br>
              <a:rPr sz="3700"/>
            </a:b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catalyzed by biogenic transition metal</a:t>
            </a: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2386080"/>
            <a:ext cx="76960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sk-SK" sz="2800" spc="-1" strike="noStrike">
                <a:solidFill>
                  <a:srgbClr val="0000ff"/>
                </a:solidFill>
                <a:latin typeface="Arial Black"/>
              </a:rPr>
              <a:t>Cu(II) 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Weissberge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9900"/>
                </a:solidFill>
                <a:latin typeface="Arial"/>
              </a:rPr>
              <a:t>Fe(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</a:t>
            </a:r>
            <a:r>
              <a:rPr b="0" lang="sk-SK" sz="2800" spc="-1" strike="noStrike">
                <a:solidFill>
                  <a:srgbClr val="009900"/>
                </a:solidFill>
                <a:latin typeface="Arial"/>
              </a:rPr>
              <a:t>II)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/Fe(II) Udenfriend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Arial"/>
              </a:rPr>
              <a:t>Fe(I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sk-SK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Fe(I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nto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Arial"/>
              </a:rPr>
              <a:t>Fe(I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sk-SK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Fe(I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ber-Weis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77040" y="24192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3434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2666880"/>
            <a:ext cx="3048120" cy="8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ant =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ascorb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4824360"/>
            <a:ext cx="2514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ant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•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EED-6D11-47FF-A0D6-E463E8A244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B491D-4E42-491F-B270-99C0223ECD7E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second topic – actors in the inflammatory process – </a:t>
            </a: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NOTE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scorb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centration =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0 – 150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μ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ntration of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“free” C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.1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μ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variable </a:t>
            </a:r>
            <a:r>
              <a:rPr b="0" lang="sk-SK" sz="31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B44-7D1A-48FD-901C-E998B80D83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942A0-0F70-436E-8635-3BF51A23E036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The third topic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A target biostructure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-molar-mass hyalurona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#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#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, R. St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C52-5177-43B0-8B78-29C9D396F2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BF6B6-DA44-4B53-8114-FABFEAD185F2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336666"/>
                </a:solidFill>
                <a:latin typeface="Arial Black"/>
              </a:rPr>
              <a:t>Hyaluronan (</a:t>
            </a:r>
            <a:r>
              <a:rPr b="0" lang="sk-SK" sz="3300" spc="-1" strike="noStrike">
                <a:solidFill>
                  <a:srgbClr val="0000ff"/>
                </a:solidFill>
                <a:latin typeface="Arial Black"/>
              </a:rPr>
              <a:t>HA</a:t>
            </a:r>
            <a:r>
              <a:rPr b="0" lang="sk-SK" sz="33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1120" y="2305080"/>
          <a:ext cx="793584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305080"/>
                    <a:ext cx="7935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560" y="4419720"/>
            <a:ext cx="7476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accharide repeating un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 Black"/>
              </a:rPr>
              <a:t>400 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[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-2-acetamido-2-deoxy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lucosyl-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lucopyranosyluronic acid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159680" y="3809880"/>
            <a:ext cx="1641600" cy="2286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204600" y="58802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1 M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114800"/>
            <a:ext cx="327636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3" idx="0"/>
          </p:cNvCxnSpPr>
          <p:nvPr/>
        </p:nvCxnSpPr>
        <p:spPr>
          <a:xfrm flipV="1">
            <a:off x="2819160" y="3876120"/>
            <a:ext cx="1080" cy="229320"/>
          </a:xfrm>
          <a:prstGeom prst="straightConnector1">
            <a:avLst/>
          </a:prstGeom>
          <a:ln w="19080">
            <a:solidFill>
              <a:srgbClr val="009900"/>
            </a:solidFill>
            <a:miter/>
          </a:ln>
        </p:spPr>
      </p:cxnSp>
      <p:cxnSp>
        <p:nvCxnSpPr>
          <p:cNvPr id="195" name=""/>
          <p:cNvCxnSpPr/>
          <p:nvPr/>
        </p:nvCxnSpPr>
        <p:spPr>
          <a:xfrm flipV="1">
            <a:off x="6095520" y="3885480"/>
            <a:ext cx="1080" cy="229320"/>
          </a:xfrm>
          <a:prstGeom prst="straightConnector1">
            <a:avLst/>
          </a:prstGeom>
          <a:ln w="19080">
            <a:solidFill>
              <a:srgbClr val="0099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, R. St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9D2-B0AF-42BA-8548-162FAB7830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15E90-A93C-4A39-8B39-6D347C0121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yaluronan </a:t>
            </a:r>
            <a:br>
              <a:rPr sz="3300"/>
            </a:br>
            <a:r>
              <a:rPr b="0" lang="en-US" sz="22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higher-ordered structure</a:t>
            </a:r>
            <a:r>
              <a:rPr b="0" lang="en-US" sz="22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2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80880" y="1771560"/>
          <a:ext cx="5867640" cy="21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71560"/>
                    <a:ext cx="5867640" cy="21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80880" y="3983040"/>
          <a:ext cx="5867640" cy="21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83040"/>
                    <a:ext cx="586764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16480" y="4514760"/>
            <a:ext cx="2895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Magnani A, </a:t>
            </a:r>
            <a:r>
              <a:rPr b="0" i="1" lang="sk-SK" sz="1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sk-SK" sz="1400" spc="-1" strike="noStrike">
                <a:solidFill>
                  <a:srgbClr val="ff3300"/>
                </a:solidFill>
                <a:latin typeface="Arial Black"/>
              </a:rPr>
              <a:t>Hyaluronic acid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and sulfated hyaluronic acid in aqueous solution: effect of the sulfation on the protonation and </a:t>
            </a:r>
            <a:r>
              <a:rPr b="0" lang="sk-SK" sz="1400" spc="-1" strike="noStrike">
                <a:solidFill>
                  <a:srgbClr val="ff3300"/>
                </a:solidFill>
                <a:latin typeface="Arial Black"/>
              </a:rPr>
              <a:t>complex formation with Cu</a:t>
            </a:r>
            <a:r>
              <a:rPr b="0" lang="sk-SK" sz="1400" spc="-1" strike="noStrike" baseline="30000">
                <a:solidFill>
                  <a:srgbClr val="ff3300"/>
                </a:solidFill>
                <a:latin typeface="Arial Black"/>
              </a:rPr>
              <a:t>2+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and Zn</a:t>
            </a:r>
            <a:r>
              <a:rPr b="0" lang="sk-SK" sz="1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ions. </a:t>
            </a:r>
            <a:r>
              <a:rPr b="0" i="1" lang="sk-SK" sz="1400" spc="-1" strike="noStrike">
                <a:solidFill>
                  <a:srgbClr val="000000"/>
                </a:solidFill>
                <a:latin typeface="Times New Roman"/>
              </a:rPr>
              <a:t>Macromol. Chem. Phys.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9,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2003-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18280" y="1805040"/>
            <a:ext cx="281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Nagy L. </a:t>
            </a:r>
            <a:r>
              <a:rPr b="0" i="1" lang="sk-SK" sz="1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, The local structures of </a:t>
            </a:r>
            <a:r>
              <a:rPr b="0" lang="sk-SK" sz="1400" spc="-1" strike="noStrike">
                <a:solidFill>
                  <a:srgbClr val="ff3300"/>
                </a:solidFill>
                <a:latin typeface="Arial Black"/>
              </a:rPr>
              <a:t>Cu</a:t>
            </a:r>
            <a:r>
              <a:rPr b="0" lang="sk-SK" sz="1400" spc="-1" strike="noStrike" baseline="30000">
                <a:solidFill>
                  <a:srgbClr val="ff3300"/>
                </a:solidFill>
                <a:latin typeface="Arial Black"/>
              </a:rPr>
              <a:t>2+</a:t>
            </a:r>
            <a:r>
              <a:rPr b="0" lang="sk-SK" sz="1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and Zn</a:t>
            </a:r>
            <a:r>
              <a:rPr b="0" lang="sk-SK" sz="1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sk-SK" sz="1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sk-SK" sz="1400" spc="-1" strike="noStrike">
                <a:solidFill>
                  <a:srgbClr val="ff3300"/>
                </a:solidFill>
                <a:latin typeface="Arial Black"/>
              </a:rPr>
              <a:t>complexes of hyaluronate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J. Inorg. Biochem. 1998,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, 49-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809720"/>
            <a:ext cx="58676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962520"/>
            <a:ext cx="586764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331-5B2A-4D26-A950-4A2861D364C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7A600-DE3D-45A3-A429-312213466F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A occurrence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5 g HA in total</a:t>
            </a: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5 g turnover daily</a:t>
            </a: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75 kg body weight</a:t>
            </a: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ree”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 high-molar-mas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H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form is one of the main constituents of the (joi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1" lang="en-US" sz="3100" spc="-1" strike="noStrike">
                <a:solidFill>
                  <a:srgbClr val="0000ff"/>
                </a:solidFill>
                <a:latin typeface="Arial Black"/>
              </a:rPr>
              <a:t>synovial flui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ssociated high-molar-mass HA are present in skin, eye, …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3276720"/>
            <a:ext cx="3276360" cy="990360"/>
          </a:xfrm>
          <a:prstGeom prst="ellipse">
            <a:avLst/>
          </a:prstGeom>
          <a:noFill/>
          <a:ln w="38160">
            <a:solidFill>
              <a:srgbClr val="3626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, R. St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421-3C04-4841-8616-5633886252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BA2A0-6D8E-4AAB-8BD5-757DAFAB096E}" type="datetime1">
              <a:rPr lang="en-US"/>
              <a:t>07/30/26</a:t>
            </a:fld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Hyaluronan degradation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 Black"/>
              </a:rPr>
              <a:t>how it is initiated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1817640"/>
            <a:ext cx="7696080" cy="3668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92760" y="5675400"/>
            <a:ext cx="48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omacromolecu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006) 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45520" y="42670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0000">
                  <a:alpha val="0"/>
                </a:srgbClr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95960" y="5311800"/>
            <a:ext cx="1576440" cy="755640"/>
          </a:xfrm>
          <a:prstGeom prst="verticalScroll">
            <a:avLst>
              <a:gd name="adj" fmla="val 12500"/>
            </a:avLst>
          </a:prstGeom>
          <a:solidFill>
            <a:srgbClr val="362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 Black"/>
              </a:rPr>
              <a:t>early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D24-F36B-4A5E-97FE-98C23C9AE0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1B74F-4AE3-476A-938A-79185D1334A8}" type="datetime1">
              <a:rPr lang="en-US"/>
              <a:t>07/30/26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66"/>
                </a:solidFill>
                <a:latin typeface="Arial Black"/>
              </a:rPr>
              <a:t>HA turnover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hyaluronidase enzymes (</a:t>
            </a: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Hya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are responsible for this rapid  HA turnove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is rapidly degraded, but reforms very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Black"/>
              </a:rPr>
              <a:t>Hyal-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700" spc="-1" strike="noStrike">
                <a:solidFill>
                  <a:srgbClr val="000000"/>
                </a:solidFill>
                <a:latin typeface="Arial Black"/>
              </a:rPr>
              <a:t>Hyal-2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dominate in the catabolism of HA in vertebrate tissues. They are responsible for rapid HA turnov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ff"/>
                </a:solidFill>
                <a:latin typeface="Arial Black"/>
              </a:rPr>
              <a:t>Synovial fluid is free of Hyals 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4952880"/>
            <a:ext cx="6934320" cy="1143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, R. St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566-133A-4FFC-816A-E4F6BED504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25D85-105F-4C26-A004-FC7FF09C5E33}" type="datetime1">
              <a:rPr lang="en-US"/>
              <a:t>07/30/2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Hyaluronan fragmentation by OH radicals</a:t>
            </a:r>
            <a:br>
              <a:rPr sz="2200"/>
            </a:b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200" spc="-1" strike="noStrike">
                <a:solidFill>
                  <a:srgbClr val="336666"/>
                </a:solidFill>
                <a:latin typeface="Arial Black"/>
              </a:rPr>
              <a:t>Initiation by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 ascorbate + Cu(II) + O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8840" y="1976400"/>
            <a:ext cx="8618400" cy="3476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483560" y="580536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HA catabolism in synovial fluid of healthy human be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9810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D3A-FAD0-4722-B257-15EDD70A1FE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DDBD9-6579-4DEC-9F55-4FD867B4F9B5}" type="datetime1">
              <a:rPr lang="en-US"/>
              <a:t>07/30/26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A turnover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(</a:t>
            </a: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New catabolic scheme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bolism of HA in vertebrate tissues occurs du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enzymatic and chemical 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adation occurs in quantum steps, resulting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different size HA ch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, R. St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19B-F72F-4835-A2FC-0D6D1FE63D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648D1-02FA-46D4-AA47-3AC67C42540F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A func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High-molar-mas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forms of 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H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re reflections of intact normal tissue, while fragmented forms of HA are usually indications of stres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Various size HA fragment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have an enormous repertoire of functions and </a:t>
            </a:r>
            <a:r>
              <a:rPr b="0" lang="en-US" sz="3100" spc="-1" strike="noStrike" u="sng">
                <a:solidFill>
                  <a:srgbClr val="ff0000"/>
                </a:solidFill>
                <a:uFillTx/>
                <a:latin typeface="Arial"/>
              </a:rPr>
              <a:t>constitute an information-rich syste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, R. St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7BE-AA32-48F1-86C1-4EC0C50FCCF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E6ABF-B563-4059-8DA2-07D6C59CBB73}" type="datetime1">
              <a:rPr lang="en-US"/>
              <a:t>07/30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Size-specific functions of HA chains</a:t>
            </a:r>
            <a:br>
              <a:rPr sz="2200"/>
            </a:br>
            <a:r>
              <a:rPr b="1" lang="en-US" sz="22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a new concept</a:t>
            </a:r>
            <a:r>
              <a:rPr b="1" lang="en-US" sz="22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2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High-molar-mass forms of HA are anti-inflamma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ti-angiogenic, immunosuppress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intermediate-sized HA chains 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ghly angiogenic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very inflamma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immuno-stimul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They are produced by Hyal-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, R. Ster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A07-3C4B-4207-97A9-0EA4E6DB9C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EF0F1-F5FE-4E30-AAF9-37A148DAEE89}" type="datetime1">
              <a:rPr lang="en-US"/>
              <a:t>07/30/26</a:t>
            </a:fld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855680" y="187632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1a1a1a"/>
                </a:solidFill>
                <a:uFillTx/>
                <a:latin typeface="Arial"/>
                <a:ea typeface="ＭＳ Ｐゴシック"/>
              </a:rPr>
              <a:t>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14440" y="1876320"/>
            <a:ext cx="68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1a1a1a"/>
                </a:solidFill>
                <a:uFillTx/>
                <a:latin typeface="Arial"/>
                <a:ea typeface="ＭＳ Ｐゴシック"/>
              </a:rPr>
              <a:t>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04480" y="1876320"/>
            <a:ext cx="75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1a1a1a"/>
                </a:solidFill>
                <a:uFillTx/>
                <a:latin typeface="Arial"/>
                <a:ea typeface="ＭＳ Ｐゴシック"/>
              </a:rPr>
              <a:t>Olig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75520" y="1876320"/>
            <a:ext cx="770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aluron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z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60800" y="4608360"/>
            <a:ext cx="79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nti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nflamma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30480" y="4581360"/>
            <a:ext cx="1052640" cy="4194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49920" y="4610160"/>
            <a:ext cx="79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f0715"/>
                </a:solidFill>
                <a:latin typeface="Arial"/>
                <a:ea typeface="ＭＳ Ｐゴシック"/>
              </a:rPr>
              <a:t>Pro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f0715"/>
                </a:solidFill>
                <a:latin typeface="Arial"/>
                <a:ea typeface="ＭＳ Ｐゴシック"/>
              </a:rPr>
              <a:t>inflamma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59400" y="4511520"/>
            <a:ext cx="1371600" cy="5652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128880 h 565200"/>
              <a:gd name="textAreaBottom" fmla="*/ 436320 h 56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f07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86840" y="4608360"/>
            <a:ext cx="79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nti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nflamma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50040" y="4581360"/>
            <a:ext cx="1079640" cy="4194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03200" y="2117880"/>
            <a:ext cx="91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(1X10</a:t>
            </a:r>
            <a:r>
              <a:rPr b="1" lang="en-US" sz="800" spc="-1" strike="noStrike" baseline="30000">
                <a:solidFill>
                  <a:srgbClr val="1a1a1a"/>
                </a:solidFill>
                <a:latin typeface="Arial"/>
                <a:ea typeface="ＭＳ Ｐゴシック"/>
              </a:rPr>
              <a:t>6</a:t>
            </a:r>
            <a:r>
              <a:rPr b="1" lang="en-US" sz="8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 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(1000 saccharid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6840" y="2117880"/>
            <a:ext cx="79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(&lt;2X10</a:t>
            </a:r>
            <a:r>
              <a:rPr b="1" lang="en-US" sz="800" spc="-1" strike="noStrike" baseline="30000">
                <a:solidFill>
                  <a:srgbClr val="1a1a1a"/>
                </a:solidFill>
                <a:latin typeface="Arial"/>
                <a:ea typeface="ＭＳ Ｐゴシック"/>
              </a:rPr>
              <a:t>4</a:t>
            </a:r>
            <a:r>
              <a:rPr b="1" lang="en-US" sz="8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 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(50 saccharid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75520" y="4603680"/>
            <a:ext cx="770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aluron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7960" y="2714760"/>
            <a:ext cx="965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aluronid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249720" y="3200400"/>
            <a:ext cx="615960" cy="851040"/>
            <a:chOff x="3249720" y="3200400"/>
            <a:chExt cx="615960" cy="851040"/>
          </a:xfrm>
        </p:grpSpPr>
        <p:sp>
          <p:nvSpPr>
            <p:cNvPr id="238" name=""/>
            <p:cNvSpPr/>
            <p:nvPr/>
          </p:nvSpPr>
          <p:spPr>
            <a:xfrm>
              <a:off x="3249720" y="3200400"/>
              <a:ext cx="615960" cy="17136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9720" y="3352680"/>
              <a:ext cx="615960" cy="17172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9720" y="3503520"/>
              <a:ext cx="615960" cy="17136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9720" y="3654360"/>
              <a:ext cx="615960" cy="17136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9720" y="3805200"/>
              <a:ext cx="615960" cy="17136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49720" y="3276720"/>
              <a:ext cx="615960" cy="17136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9720" y="3427560"/>
              <a:ext cx="615960" cy="17136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49720" y="3578040"/>
              <a:ext cx="615960" cy="17172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49720" y="3728880"/>
              <a:ext cx="615960" cy="17172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49720" y="3879720"/>
              <a:ext cx="615960" cy="17172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648480" y="3276720"/>
            <a:ext cx="63360" cy="696960"/>
            <a:chOff x="6648480" y="3276720"/>
            <a:chExt cx="63360" cy="696960"/>
          </a:xfrm>
        </p:grpSpPr>
        <p:sp>
          <p:nvSpPr>
            <p:cNvPr id="249" name=""/>
            <p:cNvSpPr/>
            <p:nvPr/>
          </p:nvSpPr>
          <p:spPr>
            <a:xfrm>
              <a:off x="6648480" y="3276720"/>
              <a:ext cx="63360" cy="1764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48480" y="342936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48480" y="358020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48480" y="373104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48480" y="3881520"/>
              <a:ext cx="63360" cy="1764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48480" y="3353040"/>
              <a:ext cx="63360" cy="1764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8480" y="350388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48480" y="365472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48480" y="380556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48480" y="395640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815000" y="3235320"/>
            <a:ext cx="860040" cy="779400"/>
            <a:chOff x="4815000" y="3235320"/>
            <a:chExt cx="860040" cy="779400"/>
          </a:xfrm>
        </p:grpSpPr>
        <p:grpSp>
          <p:nvGrpSpPr>
            <p:cNvPr id="260" name=""/>
            <p:cNvGrpSpPr/>
            <p:nvPr/>
          </p:nvGrpSpPr>
          <p:grpSpPr>
            <a:xfrm>
              <a:off x="4815000" y="3235320"/>
              <a:ext cx="319680" cy="779400"/>
              <a:chOff x="4815000" y="3235320"/>
              <a:chExt cx="319680" cy="779400"/>
            </a:xfrm>
          </p:grpSpPr>
          <p:sp>
            <p:nvSpPr>
              <p:cNvPr id="261" name=""/>
              <p:cNvSpPr/>
              <p:nvPr/>
            </p:nvSpPr>
            <p:spPr>
              <a:xfrm>
                <a:off x="4815000" y="323532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15000" y="3387960"/>
                <a:ext cx="319680" cy="9972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15000" y="3538800"/>
                <a:ext cx="319680" cy="9972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5000" y="368928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15000" y="384012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815000" y="331164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15000" y="346248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815000" y="361332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15000" y="376416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15000" y="3915000"/>
                <a:ext cx="319680" cy="9972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502960" y="3281400"/>
              <a:ext cx="172080" cy="733320"/>
              <a:chOff x="5502960" y="3281400"/>
              <a:chExt cx="172080" cy="733320"/>
            </a:xfrm>
          </p:grpSpPr>
          <p:sp>
            <p:nvSpPr>
              <p:cNvPr id="272" name=""/>
              <p:cNvSpPr/>
              <p:nvPr/>
            </p:nvSpPr>
            <p:spPr>
              <a:xfrm>
                <a:off x="5502960" y="328140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02960" y="343368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02960" y="358452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502960" y="373536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502960" y="388620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02960" y="335736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02960" y="350820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02960" y="365904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02960" y="380988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502960" y="396072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204520" y="3263760"/>
              <a:ext cx="228960" cy="750960"/>
              <a:chOff x="5204520" y="3263760"/>
              <a:chExt cx="228960" cy="750960"/>
            </a:xfrm>
          </p:grpSpPr>
          <p:sp>
            <p:nvSpPr>
              <p:cNvPr id="283" name=""/>
              <p:cNvSpPr/>
              <p:nvPr/>
            </p:nvSpPr>
            <p:spPr>
              <a:xfrm>
                <a:off x="5204520" y="3263760"/>
                <a:ext cx="228960" cy="7164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204520" y="341640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04520" y="356724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04520" y="371808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04520" y="3868560"/>
                <a:ext cx="228960" cy="7164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04520" y="334008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04520" y="349092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04520" y="364176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204520" y="379260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04520" y="394344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936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3" name=""/>
          <p:cNvSpPr/>
          <p:nvPr/>
        </p:nvSpPr>
        <p:spPr>
          <a:xfrm>
            <a:off x="6248520" y="2638440"/>
            <a:ext cx="11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Hyal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0960" y="2638440"/>
            <a:ext cx="63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Arial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  <a:ea typeface="ＭＳ Ｐゴシック"/>
              </a:rPr>
              <a:t>+ Hyal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39200" y="2630520"/>
            <a:ext cx="45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Hyal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559320" y="4086360"/>
            <a:ext cx="3324240" cy="380880"/>
            <a:chOff x="3559320" y="4086360"/>
            <a:chExt cx="3324240" cy="380880"/>
          </a:xfrm>
        </p:grpSpPr>
        <p:sp>
          <p:nvSpPr>
            <p:cNvPr id="297" name=""/>
            <p:cNvSpPr/>
            <p:nvPr/>
          </p:nvSpPr>
          <p:spPr>
            <a:xfrm>
              <a:off x="3559320" y="408636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45200" y="4086360"/>
              <a:ext cx="0" cy="380880"/>
            </a:xfrm>
            <a:prstGeom prst="line">
              <a:avLst/>
            </a:prstGeom>
            <a:ln w="28440">
              <a:solidFill>
                <a:srgbClr val="cf07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83560" y="408636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025880" y="36259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9320" y="5470560"/>
            <a:ext cx="67053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The anti- or pro-inflammatory functions of HA are related to chain size. High MW polymer is degraded by Hyal2 enzyme to a size that is very inflammatory and angiogenic, and is further degraded by Hyal1 to tetrasaccharid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781680" y="3276720"/>
            <a:ext cx="63360" cy="696960"/>
            <a:chOff x="6781680" y="3276720"/>
            <a:chExt cx="63360" cy="696960"/>
          </a:xfrm>
        </p:grpSpPr>
        <p:sp>
          <p:nvSpPr>
            <p:cNvPr id="303" name=""/>
            <p:cNvSpPr/>
            <p:nvPr/>
          </p:nvSpPr>
          <p:spPr>
            <a:xfrm>
              <a:off x="6781680" y="3276720"/>
              <a:ext cx="63360" cy="1764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81680" y="342936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81680" y="358020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81680" y="373104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81680" y="3881520"/>
              <a:ext cx="63360" cy="1764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81680" y="3353040"/>
              <a:ext cx="63360" cy="1764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1680" y="350388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81680" y="365472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81680" y="380556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81680" y="395640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915240" y="3276720"/>
            <a:ext cx="63360" cy="696960"/>
            <a:chOff x="6915240" y="3276720"/>
            <a:chExt cx="63360" cy="696960"/>
          </a:xfrm>
        </p:grpSpPr>
        <p:sp>
          <p:nvSpPr>
            <p:cNvPr id="314" name=""/>
            <p:cNvSpPr/>
            <p:nvPr/>
          </p:nvSpPr>
          <p:spPr>
            <a:xfrm>
              <a:off x="6915240" y="3276720"/>
              <a:ext cx="63360" cy="1764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15240" y="342936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15240" y="358020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15240" y="373104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15240" y="3881520"/>
              <a:ext cx="63360" cy="1764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15240" y="3353040"/>
              <a:ext cx="63360" cy="1764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15240" y="350388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15240" y="365472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15240" y="380556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15240" y="395640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867280" y="36259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68680" y="3552840"/>
            <a:ext cx="779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aluron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eakdow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048440" y="3276720"/>
            <a:ext cx="63360" cy="696960"/>
            <a:chOff x="7048440" y="3276720"/>
            <a:chExt cx="63360" cy="696960"/>
          </a:xfrm>
        </p:grpSpPr>
        <p:sp>
          <p:nvSpPr>
            <p:cNvPr id="327" name=""/>
            <p:cNvSpPr/>
            <p:nvPr/>
          </p:nvSpPr>
          <p:spPr>
            <a:xfrm>
              <a:off x="7048440" y="3276720"/>
              <a:ext cx="63360" cy="1764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48440" y="342936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48440" y="358020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48440" y="373104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48440" y="3881520"/>
              <a:ext cx="63360" cy="1764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48440" y="3353040"/>
              <a:ext cx="63360" cy="1764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48440" y="350388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48440" y="365472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48440" y="380556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48440" y="3956400"/>
              <a:ext cx="63360" cy="1728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936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791240" y="2117880"/>
            <a:ext cx="9136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˜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100 saccharid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05520" y="24098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700200"/>
            <a:ext cx="7696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Functions of HA chains</a:t>
            </a:r>
            <a:br>
              <a:rPr sz="1800"/>
            </a:b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 Black"/>
              </a:rPr>
              <a:t>a new concept</a:t>
            </a: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1828800"/>
            <a:ext cx="1676160" cy="3429000"/>
          </a:xfrm>
          <a:prstGeom prst="rect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Ster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20D-1978-4CF6-9B16-A70AC86D1556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7DA3C-EBDF-4AEA-8F79-714656C8BA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762120" y="728640"/>
            <a:ext cx="7696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Degradation of HA by platel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 Black"/>
              </a:rPr>
              <a:t>a new concept</a:t>
            </a: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1905120"/>
            <a:ext cx="6400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 Black"/>
              </a:rPr>
              <a:t>Platelets contain Hyal-2 enzyme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high MW    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intermediate siz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514600" y="4559400"/>
            <a:ext cx="615960" cy="850320"/>
            <a:chOff x="2514600" y="4559400"/>
            <a:chExt cx="615960" cy="850320"/>
          </a:xfrm>
        </p:grpSpPr>
        <p:sp>
          <p:nvSpPr>
            <p:cNvPr id="344" name=""/>
            <p:cNvSpPr/>
            <p:nvPr/>
          </p:nvSpPr>
          <p:spPr>
            <a:xfrm>
              <a:off x="2514600" y="4559400"/>
              <a:ext cx="615960" cy="17100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1908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14600" y="4711320"/>
              <a:ext cx="615960" cy="17136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1908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14600" y="4862160"/>
              <a:ext cx="615960" cy="17100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1908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14600" y="5013000"/>
              <a:ext cx="615960" cy="17100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1908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14600" y="5163840"/>
              <a:ext cx="615960" cy="17100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1908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14600" y="4635360"/>
              <a:ext cx="615960" cy="17100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1908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14600" y="4786200"/>
              <a:ext cx="615960" cy="17100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1908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4600" y="4936680"/>
              <a:ext cx="615960" cy="17136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1908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14600" y="5087520"/>
              <a:ext cx="615960" cy="17136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1908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4600" y="5238360"/>
              <a:ext cx="615960" cy="171360"/>
            </a:xfrm>
            <a:custGeom>
              <a:avLst/>
              <a:gdLst/>
              <a:ahLst/>
              <a:rect l="l" t="t" r="r" b="b"/>
              <a:pathLst>
                <a:path w="308" h="108">
                  <a:moveTo>
                    <a:pt x="0" y="96"/>
                  </a:moveTo>
                  <a:cubicBezTo>
                    <a:pt x="16" y="106"/>
                    <a:pt x="20" y="108"/>
                    <a:pt x="40" y="104"/>
                  </a:cubicBezTo>
                  <a:cubicBezTo>
                    <a:pt x="59" y="91"/>
                    <a:pt x="83" y="84"/>
                    <a:pt x="100" y="68"/>
                  </a:cubicBezTo>
                  <a:cubicBezTo>
                    <a:pt x="115" y="52"/>
                    <a:pt x="129" y="32"/>
                    <a:pt x="148" y="20"/>
                  </a:cubicBezTo>
                  <a:cubicBezTo>
                    <a:pt x="161" y="10"/>
                    <a:pt x="178" y="9"/>
                    <a:pt x="192" y="0"/>
                  </a:cubicBezTo>
                  <a:cubicBezTo>
                    <a:pt x="228" y="2"/>
                    <a:pt x="241" y="4"/>
                    <a:pt x="272" y="12"/>
                  </a:cubicBezTo>
                  <a:cubicBezTo>
                    <a:pt x="288" y="22"/>
                    <a:pt x="294" y="38"/>
                    <a:pt x="308" y="52"/>
                  </a:cubicBezTo>
                </a:path>
              </a:pathLst>
            </a:custGeom>
            <a:noFill/>
            <a:ln w="19080">
              <a:solidFill>
                <a:srgbClr val="1a1a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845320" y="4630680"/>
            <a:ext cx="860040" cy="779400"/>
            <a:chOff x="5845320" y="4630680"/>
            <a:chExt cx="860040" cy="779400"/>
          </a:xfrm>
        </p:grpSpPr>
        <p:grpSp>
          <p:nvGrpSpPr>
            <p:cNvPr id="355" name=""/>
            <p:cNvGrpSpPr/>
            <p:nvPr/>
          </p:nvGrpSpPr>
          <p:grpSpPr>
            <a:xfrm>
              <a:off x="5845320" y="4630680"/>
              <a:ext cx="319680" cy="779400"/>
              <a:chOff x="5845320" y="4630680"/>
              <a:chExt cx="319680" cy="779400"/>
            </a:xfrm>
          </p:grpSpPr>
          <p:sp>
            <p:nvSpPr>
              <p:cNvPr id="356" name=""/>
              <p:cNvSpPr/>
              <p:nvPr/>
            </p:nvSpPr>
            <p:spPr>
              <a:xfrm>
                <a:off x="5845320" y="463068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45320" y="4783320"/>
                <a:ext cx="319680" cy="9972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45320" y="4934160"/>
                <a:ext cx="319680" cy="9972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45320" y="508464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45320" y="523548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45320" y="470700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45320" y="485784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45320" y="500868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45320" y="5159520"/>
                <a:ext cx="319680" cy="1000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45320" y="5310360"/>
                <a:ext cx="319680" cy="9972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533280" y="4676760"/>
              <a:ext cx="172080" cy="733320"/>
              <a:chOff x="6533280" y="4676760"/>
              <a:chExt cx="172080" cy="733320"/>
            </a:xfrm>
          </p:grpSpPr>
          <p:sp>
            <p:nvSpPr>
              <p:cNvPr id="367" name=""/>
              <p:cNvSpPr/>
              <p:nvPr/>
            </p:nvSpPr>
            <p:spPr>
              <a:xfrm>
                <a:off x="6533280" y="467676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533280" y="482904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33280" y="497988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33280" y="513072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33280" y="528156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33280" y="475272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33280" y="490356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33280" y="505440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33280" y="520524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33280" y="5356080"/>
                <a:ext cx="172080" cy="5400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234840" y="4659120"/>
              <a:ext cx="228960" cy="750960"/>
              <a:chOff x="6234840" y="4659120"/>
              <a:chExt cx="228960" cy="750960"/>
            </a:xfrm>
          </p:grpSpPr>
          <p:sp>
            <p:nvSpPr>
              <p:cNvPr id="378" name=""/>
              <p:cNvSpPr/>
              <p:nvPr/>
            </p:nvSpPr>
            <p:spPr>
              <a:xfrm>
                <a:off x="6234840" y="4659120"/>
                <a:ext cx="228960" cy="7164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34840" y="481176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34840" y="496260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234840" y="511344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34840" y="5263920"/>
                <a:ext cx="228960" cy="7164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34840" y="473544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34840" y="488628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234840" y="503712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234840" y="518796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34840" y="5338800"/>
                <a:ext cx="228960" cy="7128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0" y="96"/>
                    </a:moveTo>
                    <a:cubicBezTo>
                      <a:pt x="16" y="106"/>
                      <a:pt x="20" y="108"/>
                      <a:pt x="40" y="104"/>
                    </a:cubicBezTo>
                    <a:cubicBezTo>
                      <a:pt x="59" y="91"/>
                      <a:pt x="83" y="84"/>
                      <a:pt x="100" y="68"/>
                    </a:cubicBezTo>
                    <a:cubicBezTo>
                      <a:pt x="115" y="52"/>
                      <a:pt x="129" y="32"/>
                      <a:pt x="148" y="20"/>
                    </a:cubicBezTo>
                    <a:cubicBezTo>
                      <a:pt x="161" y="10"/>
                      <a:pt x="178" y="9"/>
                      <a:pt x="192" y="0"/>
                    </a:cubicBezTo>
                    <a:cubicBezTo>
                      <a:pt x="228" y="2"/>
                      <a:pt x="241" y="4"/>
                      <a:pt x="272" y="12"/>
                    </a:cubicBezTo>
                    <a:cubicBezTo>
                      <a:pt x="288" y="22"/>
                      <a:pt x="294" y="38"/>
                      <a:pt x="308" y="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8" name=""/>
          <p:cNvSpPr/>
          <p:nvPr/>
        </p:nvSpPr>
        <p:spPr>
          <a:xfrm>
            <a:off x="4191120" y="4816440"/>
            <a:ext cx="53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00200" y="330516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-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-angiogenic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760" y="3305160"/>
            <a:ext cx="31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hly 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hly angiog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56386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~ 20 k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Ster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C9D-E854-4C70-9BC1-D7FF292FDD9F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FD10E-CED1-4332-90BD-9ED5FFD173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762120" y="728640"/>
            <a:ext cx="7696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US Pro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 Black"/>
              </a:rPr>
              <a:t>R. Stern </a:t>
            </a:r>
            <a:r>
              <a:rPr b="1" i="1" lang="en-US" sz="2600" spc="-1" strike="noStrike">
                <a:solidFill>
                  <a:srgbClr val="0000ff"/>
                </a:solidFill>
                <a:latin typeface="Arial Black"/>
              </a:rPr>
              <a:t>et al</a:t>
            </a:r>
            <a:r>
              <a:rPr b="1" lang="en-US" sz="2600" spc="-1" strike="noStrike">
                <a:solidFill>
                  <a:srgbClr val="0000ff"/>
                </a:solidFill>
                <a:latin typeface="Arial Black"/>
              </a:rPr>
              <a:t>., concept</a:t>
            </a: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22096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Isolation of Hyal-2 enzyme for medical application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572000" y="1828800"/>
          <a:ext cx="4191120" cy="2647800"/>
        </p:xfrm>
        <a:graphic>
          <a:graphicData uri="http://schemas.openxmlformats.org/drawingml/2006/table">
            <a:tbl>
              <a:tblPr/>
              <a:tblGrid>
                <a:gridCol w="990720"/>
                <a:gridCol w="685800"/>
                <a:gridCol w="761760"/>
                <a:gridCol w="838440"/>
                <a:gridCol w="9144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ification St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(m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 (mg/m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Activity (NFU/m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fold Pur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 Mate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gent P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-Sephar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yapat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x10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1143000" y="469440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Preparation of Hyal-2 enzym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r medical applications </a:t>
            </a:r>
            <a:r>
              <a:rPr b="1" lang="sk-SK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by genetic approaches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67480" y="2448000"/>
            <a:ext cx="45720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76840" y="3971880"/>
            <a:ext cx="457200" cy="457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91360" y="2448000"/>
            <a:ext cx="457200" cy="457200"/>
          </a:xfrm>
          <a:prstGeom prst="ellipse">
            <a:avLst/>
          </a:prstGeom>
          <a:noFill/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86600" y="3886200"/>
            <a:ext cx="64764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Ster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22C-72D3-4D50-AE33-DC0615D6E2E7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779FF-C465-4ECE-AC7B-7BE41BA0AF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Hyaluronan fragmentation</a:t>
            </a:r>
            <a:r>
              <a:rPr b="1" lang="en-US" sz="30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 Black"/>
              </a:rPr>
              <a:t>state of the art</a:t>
            </a:r>
            <a:r>
              <a:rPr b="1" lang="en-US" sz="30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3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8240" y="1905120"/>
            <a:ext cx="76834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rn, Kogan, Jedrzejas, Šolté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548-A14A-404C-BA2E-501E81223E5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5516D-D3AA-46C8-B9A6-D00893812843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 Black"/>
              </a:rPr>
              <a:t>Hyaluronan fragmentation (</a:t>
            </a:r>
            <a:r>
              <a:rPr b="1" lang="en-US" sz="2600" spc="-1" strike="noStrike">
                <a:solidFill>
                  <a:srgbClr val="0000ff"/>
                </a:solidFill>
                <a:latin typeface="Arial Black"/>
              </a:rPr>
              <a:t>enzymatic</a:t>
            </a:r>
            <a:r>
              <a:rPr b="1" lang="en-US" sz="30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3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80880" y="2171880"/>
            <a:ext cx="8458200" cy="30096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925640" y="5562720"/>
            <a:ext cx="60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pters prepared by the US co-auth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Stern, M.J. Jedrzej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6F4-6515-4CC8-B6DF-78B109DD21C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9D311-BF3C-4BF9-96AF-EE009AC6C6C2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 Black"/>
              </a:rPr>
              <a:t>The first topic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Building blocks of the biostructures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 u="sng">
                <a:solidFill>
                  <a:srgbClr val="0000ff"/>
                </a:solidFill>
                <a:uFillTx/>
                <a:latin typeface="Arial Black"/>
              </a:rPr>
              <a:t>Biogenic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 transition met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ff"/>
                </a:solidFill>
                <a:latin typeface="Arial Black"/>
              </a:rPr>
              <a:t>E</a:t>
            </a:r>
            <a:r>
              <a:rPr b="0" lang="en-US" sz="3100" spc="-1" strike="noStrike">
                <a:solidFill>
                  <a:srgbClr val="0000ff"/>
                </a:solidFill>
                <a:latin typeface="Arial Black"/>
                <a:ea typeface="Arial"/>
              </a:rPr>
              <a:t>°’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100" spc="-1" strike="noStrike">
                <a:solidFill>
                  <a:srgbClr val="0000ff"/>
                </a:solidFill>
                <a:latin typeface="Arial"/>
              </a:rPr>
              <a:t>Hyaluronan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k-SK" sz="3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sk-SK" sz="3100" spc="-1" strike="noStrike">
                <a:solidFill>
                  <a:srgbClr val="0000ff"/>
                </a:solidFill>
                <a:latin typeface="Arial Black"/>
              </a:rPr>
              <a:t>HA</a:t>
            </a:r>
            <a:r>
              <a:rPr b="0" lang="sk-SK" sz="31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C4C-DBA7-44E0-8279-1DB1E034C0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79DA9-2603-4665-88A2-5BB0380743DA}" type="datetime1">
              <a:rPr lang="en-US"/>
              <a:t>07/30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 Black"/>
              </a:rPr>
              <a:t>Hyaluronan fragmentation </a:t>
            </a:r>
            <a:r>
              <a:rPr b="1" lang="en-US" sz="3000" spc="-1" strike="noStrike" u="sng">
                <a:solidFill>
                  <a:srgbClr val="336666"/>
                </a:solidFill>
                <a:uFillTx/>
                <a:latin typeface="Arial Black"/>
              </a:rPr>
              <a:t>in the synovial fluid</a:t>
            </a:r>
            <a:r>
              <a:rPr b="1" lang="en-US" sz="3000" spc="-1" strike="noStrike">
                <a:solidFill>
                  <a:srgbClr val="336666"/>
                </a:solidFill>
                <a:latin typeface="Arial Black"/>
              </a:rPr>
              <a:t> (</a:t>
            </a:r>
            <a:r>
              <a:rPr b="1" lang="en-US" sz="2600" spc="-1" strike="noStrike">
                <a:solidFill>
                  <a:srgbClr val="0000ff"/>
                </a:solidFill>
                <a:latin typeface="Arial Black"/>
              </a:rPr>
              <a:t>ROS</a:t>
            </a:r>
            <a:r>
              <a:rPr b="1" lang="en-US" sz="30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3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34480" y="5715000"/>
            <a:ext cx="65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pters prepared by the Slovak co-auth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419120" y="1900080"/>
            <a:ext cx="6400800" cy="37386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3581280" y="3390840"/>
            <a:ext cx="2362320" cy="3812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Kogan, L. Šolté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296-6EAA-480B-8BEE-C47B9B5E2FC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2FAA3-9AD1-4877-9B63-A9D63E8C3573}" type="datetime1">
              <a:rPr lang="en-US"/>
              <a:t>07/30/26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 Black"/>
              </a:rPr>
              <a:t>Hyaluronan fragments prepared by (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ascorbate + Cu(II) + O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en-US" sz="30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3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20720" y="1828800"/>
            <a:ext cx="5908680" cy="4419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762360" y="478152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4240" y="5067360"/>
            <a:ext cx="586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4240" y="5353200"/>
            <a:ext cx="4496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705720" y="1828800"/>
            <a:ext cx="1752480" cy="4419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8077320" y="377208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29600" y="49528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06080" y="39466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ff"/>
                </a:solidFill>
                <a:latin typeface="Arial"/>
              </a:rPr>
              <a:t>Cu(I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50440" y="506736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</a:rPr>
              <a:t>Cu(I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53341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2480" y="564840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, K. Valachová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041-120F-47C7-A227-7A7DBD74FA5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B5556-094F-4C69-83BB-A162078233C3}" type="datetime1">
              <a:rPr lang="en-US"/>
              <a:t>07/30/26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Hyaluronan fragmentation by OH radicals</a:t>
            </a:r>
            <a:br>
              <a:rPr sz="2200"/>
            </a:b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1" lang="en-US" sz="2200" spc="-1" strike="noStrike">
                <a:solidFill>
                  <a:srgbClr val="336666"/>
                </a:solidFill>
                <a:latin typeface="Arial Black"/>
              </a:rPr>
              <a:t>Initiation by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 ascorbate + Cu(II) + O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en-US" sz="26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866880" y="3882960"/>
          <a:ext cx="7637400" cy="14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3882960"/>
                    <a:ext cx="763740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762120" y="2192400"/>
          <a:ext cx="6933960" cy="13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92400"/>
                    <a:ext cx="693396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7692120" y="2576520"/>
            <a:ext cx="7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k-SK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62680" y="5715000"/>
            <a:ext cx="449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itiation: HA +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→ 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10160" y="3476520"/>
            <a:ext cx="0" cy="609840"/>
          </a:xfrm>
          <a:prstGeom prst="line">
            <a:avLst/>
          </a:prstGeom>
          <a:ln w="5724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86720" y="2457360"/>
            <a:ext cx="83808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0" y="4267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51C-BBDE-4809-9622-A1AE01AD817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D8506-DA95-48A2-832D-784F39CE9C87}" type="datetime1">
              <a:rPr lang="en-US"/>
              <a:t>07/30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Hyaluronan fragmentation</a:t>
            </a:r>
            <a:r>
              <a:rPr b="1" lang="en-US" sz="3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33520" y="1927080"/>
            <a:ext cx="8153280" cy="37339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61800" y="4038480"/>
            <a:ext cx="4114800" cy="1676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43360" y="4038480"/>
            <a:ext cx="4114800" cy="1676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8800" y="5881680"/>
            <a:ext cx="41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 fragments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Arial"/>
              </a:rPr>
              <a:t>→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  <a:ea typeface="Arial"/>
              </a:rPr>
              <a:t>INFLAMMATO</a:t>
            </a:r>
            <a:r>
              <a:rPr b="0" lang="sk-SK" sz="1800" spc="-1" strike="noStrike">
                <a:solidFill>
                  <a:srgbClr val="ff0000"/>
                </a:solidFill>
                <a:latin typeface="Arial Black"/>
                <a:ea typeface="Arial"/>
              </a:rPr>
              <a:t>RY 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49760" y="46864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5680" y="24130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1484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33920" y="240516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823-BF10-4F77-8D32-EDE5D69032E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4DDAD-8654-4D61-B5C0-7A30B180E68A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 Black"/>
              </a:rPr>
              <a:t>Hyaluronan fragmentation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int inflammation – acute/early s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 + 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... </a:t>
            </a:r>
            <a:r>
              <a:rPr b="0" lang="en-US" sz="2200" spc="-1" strike="noStrike">
                <a:solidFill>
                  <a:srgbClr val="ff0000"/>
                </a:solidFill>
                <a:latin typeface="Arial Black"/>
              </a:rPr>
              <a:t>hydroxyl, alky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OO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 + AOO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OO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ox/transfer of elect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OH +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O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91080" y="4403880"/>
            <a:ext cx="3262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200" spc="-1" strike="noStrike">
                <a:solidFill>
                  <a:srgbClr val="ff0000"/>
                </a:solidFill>
                <a:latin typeface="Arial Black"/>
              </a:rPr>
              <a:t>peroxyl, alkoxyl, alky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81680" y="3657600"/>
            <a:ext cx="228600" cy="1981080"/>
          </a:xfrm>
          <a:custGeom>
            <a:avLst/>
            <a:gdLst>
              <a:gd name="textAreaLeft" fmla="*/ 0 w 228600"/>
              <a:gd name="textAreaRight" fmla="*/ 8244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2F8-37C7-43BB-A5FB-E2B399552B6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DD6B2-BE2F-41BE-9E74-5432935EA7E4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336666"/>
                </a:solidFill>
                <a:latin typeface="Arial Black"/>
              </a:rPr>
              <a:t>Test</a:t>
            </a:r>
            <a:r>
              <a:rPr b="0" lang="fr-BE" sz="2300" spc="-1" strike="noStrike">
                <a:solidFill>
                  <a:srgbClr val="336666"/>
                </a:solidFill>
                <a:latin typeface="Arial Black"/>
              </a:rPr>
              <a:t>ing the efficiency of</a:t>
            </a:r>
            <a:r>
              <a:rPr b="0" lang="sk-SK" sz="2300" spc="-1" strike="noStrike">
                <a:solidFill>
                  <a:srgbClr val="336666"/>
                </a:solidFill>
                <a:latin typeface="Arial Black"/>
              </a:rPr>
              <a:t> antioxidant</a:t>
            </a:r>
            <a:r>
              <a:rPr b="0" lang="fr-BE" sz="2300" spc="-1" strike="noStrike">
                <a:solidFill>
                  <a:srgbClr val="336666"/>
                </a:solidFill>
                <a:latin typeface="Arial Black"/>
              </a:rPr>
              <a:t>s in a system</a:t>
            </a:r>
            <a:r>
              <a:rPr b="0" lang="sk-SK" sz="2300" spc="-1" strike="noStrike">
                <a:solidFill>
                  <a:srgbClr val="336666"/>
                </a:solidFill>
                <a:latin typeface="Arial Black"/>
              </a:rPr>
              <a:t>:</a:t>
            </a:r>
            <a:r>
              <a:rPr b="0" lang="sk-SK" sz="2900" spc="-1" strike="noStrike">
                <a:solidFill>
                  <a:srgbClr val="0000ff"/>
                </a:solidFill>
                <a:latin typeface="Arial Black"/>
              </a:rPr>
              <a:t> </a:t>
            </a:r>
            <a:br>
              <a:rPr sz="2900"/>
            </a:br>
            <a:r>
              <a:rPr b="0" lang="sk-SK" sz="2900" spc="-1" strike="noStrike">
                <a:solidFill>
                  <a:srgbClr val="0000ff"/>
                </a:solidFill>
                <a:latin typeface="Arial Black"/>
              </a:rPr>
              <a:t>HA + ascorbate + Cu(II)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oint inflammation – acute/early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343400" y="3046320"/>
            <a:ext cx="4343400" cy="30877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380880" y="3633840"/>
            <a:ext cx="3200400" cy="2386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175040" y="3586320"/>
            <a:ext cx="240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+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82440" y="3008160"/>
            <a:ext cx="32284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sk-SK" sz="1800" spc="-1" strike="noStrike">
                <a:solidFill>
                  <a:srgbClr val="000000"/>
                </a:solidFill>
                <a:latin typeface="Arial Black"/>
              </a:rPr>
              <a:t>OO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+ 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O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O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+ H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sk-SK" sz="18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 Black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704880" y="281952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64720" y="2495520"/>
            <a:ext cx="16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rug</a:t>
            </a:r>
            <a:r>
              <a:rPr b="0" lang="sk-SK" sz="18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1800" spc="-1" strike="noStrike">
                <a:solidFill>
                  <a:srgbClr val="ff0000"/>
                </a:solidFill>
                <a:latin typeface="Arial Black"/>
              </a:rPr>
              <a:t>NX-Na</a:t>
            </a:r>
            <a:r>
              <a:rPr b="0" lang="sk-SK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4486320"/>
            <a:ext cx="419400" cy="54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9800" y="4933800"/>
            <a:ext cx="16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rug</a:t>
            </a:r>
            <a:r>
              <a:rPr b="0" lang="sk-SK" sz="18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sk-SK" sz="1800" spc="-1" strike="noStrike">
                <a:solidFill>
                  <a:srgbClr val="ff0000"/>
                </a:solidFill>
                <a:latin typeface="Arial Black"/>
              </a:rPr>
              <a:t>NX-Na</a:t>
            </a:r>
            <a:r>
              <a:rPr b="0" lang="sk-SK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11280" y="54244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66"/>
                </a:solidFill>
                <a:uFillTx/>
                <a:latin typeface="Arial Black"/>
              </a:rPr>
              <a:t>Chain breaking antioxi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, M. Stankovsk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25B-4B3B-4463-B3A3-27875ABD809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6399C-ACD3-4B11-91D4-FE5C0E14B343}" type="datetime1">
              <a:rPr lang="en-US"/>
              <a:t>07/30/26</a:t>
            </a:fld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 Black"/>
              </a:rPr>
              <a:t>Testing the efficiency of antioxidants in a system:</a:t>
            </a: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 </a:t>
            </a:r>
            <a:br>
              <a:rPr sz="2900"/>
            </a:b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HA + ascorbate + Cu(II)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oint inflammation – acute/early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99960" y="2924280"/>
            <a:ext cx="8363160" cy="30956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 flipH="1">
            <a:off x="4981680" y="3228840"/>
            <a:ext cx="838080" cy="9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04000" y="30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rug</a:t>
            </a:r>
            <a:r>
              <a:rPr b="0" lang="sk-SK" sz="1800" spc="-1" strike="noStrike">
                <a:solidFill>
                  <a:srgbClr val="000000"/>
                </a:solidFill>
                <a:latin typeface="Arial Black"/>
              </a:rPr>
              <a:t> (ASA</a:t>
            </a:r>
            <a:r>
              <a:rPr b="0" lang="sk-SK" sz="1800" spc="-1" strike="noStrike">
                <a:solidFill>
                  <a:srgbClr val="ff0000"/>
                </a:solidFill>
                <a:latin typeface="Arial Black"/>
              </a:rPr>
              <a:t>?</a:t>
            </a:r>
            <a:r>
              <a:rPr b="0" lang="sk-SK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619280" y="4333680"/>
            <a:ext cx="24768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36440" y="479124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rug</a:t>
            </a:r>
            <a:r>
              <a:rPr b="0" lang="sk-SK" sz="1800" spc="-1" strike="noStrike">
                <a:solidFill>
                  <a:srgbClr val="000000"/>
                </a:solidFill>
                <a:latin typeface="Arial Black"/>
              </a:rPr>
              <a:t> (ASA</a:t>
            </a:r>
            <a:r>
              <a:rPr b="0" lang="sk-SK" sz="1800" spc="-1" strike="noStrike">
                <a:solidFill>
                  <a:srgbClr val="ff0000"/>
                </a:solidFill>
                <a:latin typeface="Arial Black"/>
              </a:rPr>
              <a:t>?</a:t>
            </a:r>
            <a:r>
              <a:rPr b="0" lang="sk-SK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24000" y="2684520"/>
            <a:ext cx="853416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, M. Stankovsk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31F-590A-462D-A87E-0B5539D2367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37BBD-16B7-4579-8D51-F5C981AF8283}" type="datetime1">
              <a:rPr lang="en-US"/>
              <a:t>07/30/26</a:t>
            </a:fld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2000" fill="hold"/>
                                        <p:tgtEl>
                                          <p:spTgt spid="46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third topic – A target biostructure – </a:t>
            </a: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NOTE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Intermediate-sized HA chains a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very inflammator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PMNL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nfiltration into synovial fluid !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ff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Cocktail of oxidants !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539720" y="3538440"/>
            <a:ext cx="3657600" cy="26942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038320" y="4305240"/>
            <a:ext cx="762120" cy="609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5410080" y="3306600"/>
            <a:ext cx="2971800" cy="29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FF4-2127-4A6F-BAC8-48D275FE329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A30C3-3FD6-409C-AF65-1AE200465C69}" type="datetime1">
              <a:rPr lang="en-US"/>
              <a:t>07/30/26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4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6666"/>
                </a:solidFill>
                <a:latin typeface="Arial Black"/>
              </a:rPr>
              <a:t>Testing the efficiency of antioxidants by using</a:t>
            </a: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 </a:t>
            </a:r>
            <a:br>
              <a:rPr sz="2900"/>
            </a:br>
            <a:r>
              <a:rPr b="0" lang="en-US" sz="29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100" spc="-1" strike="noStrike">
                <a:solidFill>
                  <a:srgbClr val="ff0000"/>
                </a:solidFill>
                <a:latin typeface="Arial Black"/>
              </a:rPr>
              <a:t>a cocktail of oxidants !</a:t>
            </a:r>
            <a:endParaRPr b="0" lang="en-US" sz="3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inflammation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t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vi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Arial Black"/>
              </a:rPr>
              <a:t>In vivo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 Black"/>
              </a:rPr>
              <a:t>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86080" y="3581280"/>
            <a:ext cx="617220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</a:rPr>
              <a:t>In vitro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 !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66"/>
                </a:solidFill>
                <a:uFillTx/>
                <a:latin typeface="Arial Black"/>
              </a:rPr>
              <a:t>Early stage</a:t>
            </a: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 of the acute phase of joint inflam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HA + ascorbate + Cu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F80-DE84-4273-ABBC-FB9EE15102F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15A0D-E94E-47BE-BA1C-92F85B525306}" type="datetime1">
              <a:rPr lang="en-US"/>
              <a:t>07/30/26</a:t>
            </a:fld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ajor biogenic elements (</a:t>
            </a:r>
            <a:r>
              <a:rPr b="0" lang="en-US" sz="3300" spc="-1" strike="noStrike">
                <a:solidFill>
                  <a:srgbClr val="0000ff"/>
                </a:solidFill>
                <a:latin typeface="Arial Black"/>
              </a:rPr>
              <a:t>6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arbon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ydrogen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xygen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itrogen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ulfur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hosphorus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28600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2286000"/>
            <a:ext cx="380880" cy="2362320"/>
          </a:xfrm>
          <a:custGeom>
            <a:avLst/>
            <a:gdLst>
              <a:gd name="textAreaLeft" fmla="*/ 0 w 380880"/>
              <a:gd name="textAreaRight" fmla="*/ 137520 w 3808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28600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286000"/>
            <a:ext cx="381240" cy="3657600"/>
          </a:xfrm>
          <a:custGeom>
            <a:avLst/>
            <a:gdLst>
              <a:gd name="textAreaLeft" fmla="*/ 0 w 381240"/>
              <a:gd name="textAreaRight" fmla="*/ 137520 w 3812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626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3280" y="3352680"/>
            <a:ext cx="685800" cy="609840"/>
          </a:xfrm>
          <a:prstGeom prst="wedgeRoundRectCallout">
            <a:avLst>
              <a:gd name="adj1" fmla="val -52777"/>
              <a:gd name="adj2" fmla="val 70050"/>
              <a:gd name="adj3" fmla="val 16667"/>
            </a:avLst>
          </a:prstGeom>
          <a:solidFill>
            <a:srgbClr val="eef9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2438280"/>
            <a:ext cx="838440" cy="609840"/>
          </a:xfrm>
          <a:prstGeom prst="wedgeRoundRectCallout">
            <a:avLst>
              <a:gd name="adj1" fmla="val -52273"/>
              <a:gd name="adj2" fmla="val 70050"/>
              <a:gd name="adj3" fmla="val 16667"/>
            </a:avLst>
          </a:prstGeom>
          <a:solidFill>
            <a:srgbClr val="eef9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690640"/>
            <a:ext cx="1067040" cy="609840"/>
          </a:xfrm>
          <a:prstGeom prst="wedgeRoundRectCallout">
            <a:avLst>
              <a:gd name="adj1" fmla="val -44643"/>
              <a:gd name="adj2" fmla="val 70050"/>
              <a:gd name="adj3" fmla="val 16667"/>
            </a:avLst>
          </a:prstGeom>
          <a:solidFill>
            <a:srgbClr val="eef9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10320" y="2981160"/>
            <a:ext cx="1066680" cy="609840"/>
          </a:xfrm>
          <a:prstGeom prst="wedgeRoundRectCallout">
            <a:avLst>
              <a:gd name="adj1" fmla="val -44643"/>
              <a:gd name="adj2" fmla="val 70050"/>
              <a:gd name="adj3" fmla="val 16667"/>
            </a:avLst>
          </a:prstGeom>
          <a:solidFill>
            <a:srgbClr val="eef9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42200" y="349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3320" y="3876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13760" y="428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36E-DB79-4AED-800F-AFF2B9D518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1B082-DF40-4717-A8E5-1D905FE21B37}" type="datetime1">
              <a:rPr lang="en-US"/>
              <a:t>07/30/26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inor biogenic elements (</a:t>
            </a:r>
            <a:r>
              <a:rPr b="0" lang="en-US" sz="3300" spc="-1" strike="noStrike">
                <a:solidFill>
                  <a:srgbClr val="0000ff"/>
                </a:solidFill>
                <a:latin typeface="Arial Black"/>
              </a:rPr>
              <a:t>5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odium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Potassium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agnesium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alcium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hlorine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9EB-FC9A-4C65-8D3D-216E03C31F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41FF2-68FD-48C7-B8D3-CC0CF694ABAF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iogenic trace elements (</a:t>
            </a:r>
            <a:r>
              <a:rPr b="0" lang="en-US" sz="3300" spc="-1" strike="noStrike">
                <a:solidFill>
                  <a:srgbClr val="0000ff"/>
                </a:solidFill>
                <a:latin typeface="Arial Black"/>
              </a:rPr>
              <a:t>13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69608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ngane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r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bal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pp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in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or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lumin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anad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olybden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od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lic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ick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rom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73D-1987-4BF3-962A-1821F6A025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7B541-6958-4DA4-A0B7-488A1ACFFD7A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ransition metals (</a:t>
            </a:r>
            <a:r>
              <a:rPr b="0" lang="en-US" sz="3300" spc="-1" strike="noStrike">
                <a:solidFill>
                  <a:srgbClr val="0000ff"/>
                </a:solidFill>
                <a:latin typeface="Arial Black"/>
              </a:rPr>
              <a:t>38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327400"/>
            <a:ext cx="9144000" cy="360"/>
          </a:xfrm>
          <a:prstGeom prst="rect">
            <a:avLst/>
          </a:prstGeom>
          <a:solidFill>
            <a:srgbClr val="fff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905120"/>
            <a:ext cx="37717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1828800"/>
          <a:ext cx="8152920" cy="4267080"/>
        </p:xfrm>
        <a:graphic>
          <a:graphicData uri="http://schemas.openxmlformats.org/drawingml/2006/table">
            <a:tbl>
              <a:tblPr/>
              <a:tblGrid>
                <a:gridCol w="602640"/>
                <a:gridCol w="626040"/>
                <a:gridCol w="746280"/>
                <a:gridCol w="747720"/>
                <a:gridCol w="745920"/>
                <a:gridCol w="747720"/>
                <a:gridCol w="712440"/>
                <a:gridCol w="744840"/>
                <a:gridCol w="874080"/>
                <a:gridCol w="714240"/>
                <a:gridCol w="891000"/>
              </a:tblGrid>
              <a:tr h="78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III 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IV 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V 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VI 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VII 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VIII 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VIII 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VIII 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I 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(II 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od 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99cc00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Sc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99cc00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Ti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99cc00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Cr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od 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99cc00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Y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99cc00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Zr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99cc00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Nb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99cc00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Tc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1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1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1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1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1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1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1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1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1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,1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od 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od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f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h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s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ub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08C-DBE9-41DF-BB3B-2BC4FCEFB5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AE6B0-00E5-419E-BA73-8D80436E064F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iogenic transition metals (</a:t>
            </a:r>
            <a:r>
              <a:rPr b="0" lang="en-US" sz="3300" spc="-1" strike="noStrike">
                <a:solidFill>
                  <a:srgbClr val="0000ff"/>
                </a:solidFill>
                <a:latin typeface="Arial Black"/>
              </a:rPr>
              <a:t>8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)</a:t>
            </a:r>
            <a:br>
              <a:rPr sz="33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mon oxidation states of the metal ion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gane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r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(+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(+6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ba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+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pp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+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Zin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anadi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lybden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6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5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ick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Šoltés, G. Kog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CFD-7A57-436D-A714-26F1ECCF96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FCEC1-02CF-4797-B3EB-2DE084CA0953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Šoltés</cp:lastModifiedBy>
  <dcterms:modified xsi:type="dcterms:W3CDTF">2007-11-21T08:41:22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9</vt:r8>
  </property>
  <property fmtid="{D5CDD505-2E9C-101B-9397-08002B2CF9AE}" pid="3" name="Version">
    <vt:r8>3</vt:r8>
  </property>
</Properties>
</file>